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05F-3F02-41A9-A665-8D59554B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CA0-1F6D-4D68-BE20-10F7B2E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784-83AD-48BC-AD07-ACEA4380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54D-8B86-412E-A53A-F698FA73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8BE5-D742-4355-AC8C-14B2E8A7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59EC-1189-4812-B084-A89FE07E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DC29-9346-4E17-87B8-369E5546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EA46-6235-47EF-AA74-24825391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C540-2E4A-4CF8-8165-106788E2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E53-19A8-4AC8-87BB-C16D78E1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525E-C3ED-421B-B2A1-3B84D57B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97F-F519-4D78-9E16-8DA16528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98FB-380E-4885-BEDB-F97C1A0E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717D-9273-4BDD-A7C7-F45D9BC9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DE6C-3DE5-48A9-908A-BF1EC5A7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6731-22C2-42BC-A1E3-063A77A8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EC44-C49D-45D9-BABE-923C8337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64C4F-2AB0-443D-824B-3A355C17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F881-EEA9-414F-8A18-314314B6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C2A0-FD79-47EF-B54B-6270890D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4E88-58A0-486B-86AC-A2AEF6B8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76E9-E5D9-4190-B957-F0DE1CFD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1D0-C10A-423C-8E72-94B355A0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4DB95-AF94-48ED-8DBE-905F8944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E6CB-7A12-4C8F-92FD-6CBE9B7D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91BD-5FF7-4709-BCBD-9DDCF36E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E071-7325-4C8B-8031-533A1D27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D304-B5EB-41AB-8C75-5EAC9055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70AD-300D-430E-AE8F-2004FD93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6049-F1DE-428B-BF05-2510A0F2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1A7C1-756C-41F3-AA19-98568C7F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83E1-B8D7-4E24-A7BA-622B319D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591E4-0635-48EE-A7B6-82F1B886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510-57D0-4116-B0DF-418A435F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DBB2-0823-4512-96A0-A42461B5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915C-A471-483F-B4F6-D956BDCE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5C98-F1F8-4B05-8CEC-8C86FD47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DE1A3-4897-4536-9F5E-646CF310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C8D5-ADB3-40D8-91CD-1A333D67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10E1-B352-4C3A-9257-604290B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A616-FA53-4421-B1C1-DBA2F279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CA72-1B29-41DB-836F-7B5BCD23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07552-03C0-4950-9FEC-B3C023F2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CC476-E97E-46CE-9F82-DD385E74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F3B-402F-4993-9C2C-FB396191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32C7-38BD-4132-93E2-BF6AB3BA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0389F-B215-4594-883D-A798A9F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A3D29-B1FE-4E05-A2B1-08CC52B5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2B515-7536-4858-8E19-A300870A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46944-A019-40F8-A56E-1027E28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8FE6A-1DE3-41B0-8437-04CE005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B2C53-407F-4CEA-B549-72AEC28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C0D60-36E7-4CA8-83A4-C8C311D3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18804-6D2F-46A7-908A-11319BA5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7F7BD-306D-45D5-A7C1-31AD73B7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974-46AB-4DC0-9EB4-DA2E67C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20D68-A091-4486-8DD9-3DC5C4FF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3DAF9-BCE5-427C-8F82-BE888D86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06CF-A6E9-44AE-AE2E-BDFDB9DA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761DE-E8C9-47EE-824C-A0B8DB63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129B9-062A-4474-BB59-9706C634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829E-0DB6-4A36-86EF-E9B657D7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EDEBA-6A78-4041-9ACF-FBE5091B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55AAC-B640-4287-ABE6-DF38089E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0F6D-2DEF-4831-A249-647DA4A8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E3D16-EF9F-43AE-8E58-C3505C5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574-2DDE-4DF0-B0AC-C652C64F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9AF0-5492-4CDA-9F61-1FEA03D4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774D-90E0-4B49-A15A-CC638A8D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5EB0B-5FB2-467B-A735-E4EC7E6F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76263-3336-4ED1-9498-F9B15177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6528-4C3C-459E-89D1-6F9994E2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BD99-F743-4A7B-A046-1FC40FCD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6064D-E3E1-4238-B354-485493BB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380A0-1EFA-45E4-9322-0268F15A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7FA89-C95F-4C3F-B9AF-645576F7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94F05-4A15-48F7-9AEE-71C8A153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157-E208-41C4-9D29-59FCED3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EA8C4-D74E-4C22-89D0-5BDC1A1A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12014-622B-475D-914E-A4A6D6F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2881B-7BE4-4FC9-8F3E-3602F77E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8B87D-5F21-45C1-BFF8-C02D2A76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A35EC-CBED-435B-8B77-297ABE52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953EF-5D72-4870-9ADA-09E4F4E5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D686D-9C52-4D9D-8ABF-427BB59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C450B-A51A-4CD3-B4C3-0F4DCE89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D64FA-786C-4345-AD52-F50CA96B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EFEF0-B9E3-45B6-A592-925AF06B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6E1-4761-4B82-ACAD-BB4993F9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C9F9A-DDDA-4516-9E1D-10CA10EB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C4563-40BD-45EA-AFAF-EBB74711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24FC2-EE19-4779-BEC4-4A7109F6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2D1BC-CF80-4CEA-8495-E2956CE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70AEA-EFBF-4FA7-A5A7-DA217C5A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036DC-A99E-443B-A01F-F9F96A57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722C7-B7F9-428E-B5CB-CA72FCC2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795F-D35E-4E5C-B903-2E406D57B42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C5F-3D82-46CD-AC26-48E7DEF3527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9DEF-FBE8-455B-90AF-3D688E6E0F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E3B0-4D79-4932-87A6-B33CBCE0EA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C10C-7F10-41DE-A7FE-421335F113D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4AE3-F3AC-4707-9E36-4A58F920C9C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354D-B1F6-497D-8726-3360552DA7C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2089-78D1-47BE-ABAA-79D2C8A208F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it for Vicki to approve you as a member of our class wiki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5" name="Picture 5" descr="Waitfor vicki.png"/>
          <p:cNvPicPr/>
          <p:nvPr/>
        </p:nvPicPr>
        <p:blipFill>
          <a:blip r:embed="rId1"/>
          <a:stretch/>
        </p:blipFill>
        <p:spPr>
          <a:xfrm>
            <a:off x="1295280" y="251460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to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ikispace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wikispaces home.jpg"/>
          <p:cNvPicPr/>
          <p:nvPr/>
        </p:nvPicPr>
        <p:blipFill>
          <a:blip r:embed="rId3"/>
          <a:stretch/>
        </p:blipFill>
        <p:spPr>
          <a:xfrm>
            <a:off x="1066680" y="2057400"/>
            <a:ext cx="68389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Sign 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wikispaces home.jpg"/>
          <p:cNvPicPr/>
          <p:nvPr/>
        </p:nvPicPr>
        <p:blipFill>
          <a:blip r:embed="rId2"/>
          <a:stretch/>
        </p:blipFill>
        <p:spPr>
          <a:xfrm>
            <a:off x="1143000" y="2133720"/>
            <a:ext cx="6838920" cy="3971880"/>
          </a:xfrm>
          <a:prstGeom prst="rect">
            <a:avLst/>
          </a:prstGeom>
          <a:ln w="0">
            <a:noFill/>
          </a:ln>
        </p:spPr>
      </p:pic>
      <p:cxnSp>
        <p:nvCxnSpPr>
          <p:cNvPr id="378" name="Straight Arrow Connector 16"/>
          <p:cNvCxnSpPr/>
          <p:nvPr/>
        </p:nvCxnSpPr>
        <p:spPr>
          <a:xfrm flipV="1">
            <a:off x="5638680" y="3352320"/>
            <a:ext cx="991440" cy="153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make new acco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1" name="Picture 3" descr="Wikisign in.png"/>
          <p:cNvPicPr/>
          <p:nvPr/>
        </p:nvPicPr>
        <p:blipFill>
          <a:blip r:embed="rId1"/>
          <a:stretch/>
        </p:blipFill>
        <p:spPr>
          <a:xfrm>
            <a:off x="914400" y="2209680"/>
            <a:ext cx="7313760" cy="4229280"/>
          </a:xfrm>
          <a:prstGeom prst="rect">
            <a:avLst/>
          </a:prstGeom>
          <a:ln w="0">
            <a:noFill/>
          </a:ln>
        </p:spPr>
      </p:pic>
      <p:cxnSp>
        <p:nvCxnSpPr>
          <p:cNvPr id="382" name="Straight Arrow Connector 5"/>
          <p:cNvCxnSpPr/>
          <p:nvPr/>
        </p:nvCxnSpPr>
        <p:spPr>
          <a:xfrm flipH="1">
            <a:off x="4342680" y="3808800"/>
            <a:ext cx="1524600" cy="305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username, password, em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no to make a wiki. Click jo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Joinwiki.png"/>
          <p:cNvPicPr/>
          <p:nvPr/>
        </p:nvPicPr>
        <p:blipFill>
          <a:blip r:embed="rId2"/>
          <a:stretch/>
        </p:blipFill>
        <p:spPr>
          <a:xfrm>
            <a:off x="1219320" y="2819520"/>
            <a:ext cx="6684840" cy="3114720"/>
          </a:xfrm>
          <a:prstGeom prst="rect">
            <a:avLst/>
          </a:prstGeom>
          <a:ln w="0">
            <a:noFill/>
          </a:ln>
        </p:spPr>
      </p:pic>
      <p:cxnSp>
        <p:nvCxnSpPr>
          <p:cNvPr id="386" name="Straight Arrow Connector 6"/>
          <p:cNvCxnSpPr/>
          <p:nvPr/>
        </p:nvCxnSpPr>
        <p:spPr>
          <a:xfrm flipH="1">
            <a:off x="4343040" y="2970720"/>
            <a:ext cx="99144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username at 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5943600" cy="4260600"/>
          </a:xfrm>
          <a:prstGeom prst="rect">
            <a:avLst/>
          </a:prstGeom>
          <a:ln w="0">
            <a:noFill/>
          </a:ln>
        </p:spPr>
      </p:pic>
      <p:cxnSp>
        <p:nvCxnSpPr>
          <p:cNvPr id="390" name="Straight Arrow Connector 5"/>
          <p:cNvCxnSpPr/>
          <p:nvPr/>
        </p:nvCxnSpPr>
        <p:spPr>
          <a:xfrm>
            <a:off x="1523520" y="1981080"/>
            <a:ext cx="2667960" cy="1905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your class as a favorite wik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5943600" cy="4110120"/>
          </a:xfrm>
          <a:prstGeom prst="rect">
            <a:avLst/>
          </a:prstGeom>
          <a:ln w="0">
            <a:noFill/>
          </a:ln>
        </p:spPr>
      </p:pic>
      <p:cxnSp>
        <p:nvCxnSpPr>
          <p:cNvPr id="394" name="Straight Arrow Connector 5"/>
          <p:cNvCxnSpPr/>
          <p:nvPr/>
        </p:nvCxnSpPr>
        <p:spPr>
          <a:xfrm flipH="1">
            <a:off x="4343040" y="2057040"/>
            <a:ext cx="1753200" cy="19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class wiki na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943600" cy="3504960"/>
          </a:xfrm>
          <a:prstGeom prst="rect">
            <a:avLst/>
          </a:prstGeom>
          <a:ln w="0">
            <a:noFill/>
          </a:ln>
        </p:spPr>
      </p:pic>
      <p:cxnSp>
        <p:nvCxnSpPr>
          <p:cNvPr id="398" name="Straight Arrow Connector 5"/>
          <p:cNvCxnSpPr/>
          <p:nvPr/>
        </p:nvCxnSpPr>
        <p:spPr>
          <a:xfrm flipH="1">
            <a:off x="2666160" y="1980000"/>
            <a:ext cx="1677240" cy="839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Join This Wiki to become a me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memberwiki.png"/>
          <p:cNvPicPr/>
          <p:nvPr/>
        </p:nvPicPr>
        <p:blipFill>
          <a:blip r:embed="rId2"/>
          <a:stretch/>
        </p:blipFill>
        <p:spPr>
          <a:xfrm>
            <a:off x="914400" y="2514600"/>
            <a:ext cx="7313760" cy="3124080"/>
          </a:xfrm>
          <a:prstGeom prst="rect">
            <a:avLst/>
          </a:prstGeom>
          <a:ln w="0">
            <a:noFill/>
          </a:ln>
        </p:spPr>
      </p:pic>
      <p:cxnSp>
        <p:nvCxnSpPr>
          <p:cNvPr id="402" name="Straight Arrow Connector 8"/>
          <p:cNvCxnSpPr/>
          <p:nvPr/>
        </p:nvCxnSpPr>
        <p:spPr>
          <a:xfrm flipH="1">
            <a:off x="2437920" y="2208600"/>
            <a:ext cx="1524960" cy="1143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6:04Z</dcterms:created>
  <dc:creator> </dc:creator>
  <dc:description/>
  <dc:language>en-US</dc:language>
  <cp:lastModifiedBy> </cp:lastModifiedBy>
  <dcterms:modified xsi:type="dcterms:W3CDTF">2011-01-23T01:31:08Z</dcterms:modified>
  <cp:revision>4</cp:revision>
  <dc:subject/>
  <dc:title>Wikispaces Accounts</dc:title>
</cp:coreProperties>
</file>